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82A-27E2-407E-BADE-732B60AE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6FC-354D-4EAE-9C0E-852FFE7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0A0-7E79-4E47-98B8-84EA621B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304-E04D-4401-82CD-A0A2F7D3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2904-FE8E-4868-94F0-6D31E5D0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7715-508A-474A-B33C-0626DCD0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B0A2-43B4-484F-988A-2AA02246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78C8-C80C-46CD-B85D-0436A22C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7CF6-1981-4459-920F-00351DCC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7B64-BE8F-4755-8E81-F24F0292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38F0-8223-48D8-B9EA-8662267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73A-9E1D-49F0-AAF5-17651508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5183-7926-4AD0-9C20-1A45123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E0EB-46A4-4007-9D53-1110FC9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9B3-2475-42CB-AAC2-B2CA31D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9B72-0D08-4211-8FD7-A4095B5D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6FFD-EA0B-4B20-A994-C22B4FC4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D82-AC45-48EE-B50C-1C9FBA21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2D1-C179-40A7-B9E8-B426765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C4D-6CB9-4CF6-8288-41675726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559-7161-43C6-B612-E528E462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3E5-CD8F-44B5-A6C4-B2A7586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BA7-6845-40C1-BEF7-4303869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091-1B8B-4613-BD19-4163ABDF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E815-C881-4695-88F0-C4CDE18EB630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E9C0-436D-40C6-B3D6-470FE46191F9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29272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0Z</dcterms:modified>
  <cp:revision>184</cp:revision>
  <dc:subject/>
  <dc:title>Slide sem título</dc:title>
</cp:coreProperties>
</file>