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027-4B56-4F36-9A8D-7E0100B4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115-C0CB-4174-9D54-9E10DC83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8D9-361F-4B56-916F-FE6C9B1E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0A4-2FC4-4482-949D-580F0390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8D11-A465-4C8B-861A-CEE87734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0A70-154E-4FB6-ACB5-9A624BBD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BF51-6509-49C6-ADC4-DB9095AA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B8B2-38F0-4267-B411-C62AEBA2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9FBB-3F33-4EC9-980B-30ABD893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B181-91FB-422D-92AB-600D4585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542E-2F3A-4F7F-84A5-A6902182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C48-7AC8-4307-8F8E-B61E3506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6322-7DA7-4439-BBBF-EA611295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4925-64B7-40D2-8896-0845B399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5A06-AD94-4766-95A8-2DB06902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1952-F819-4667-B72E-6051D3C9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38E6-ABFB-4EFF-B7E6-7A0AD838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BD4-54B2-4C8E-B69C-F8631A98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7BB-48A1-4494-BE56-C20D9EEE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E4A-9D6F-4A9F-90D7-804BEEE6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95D-022B-4B10-92F0-725EE7EA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7C1-D0CB-4DAD-9E48-8D1BC66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C02-0B3D-45D1-912E-2FFD6F69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7DD-ED86-4895-8260-36AD0BFB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8776-D1C1-4317-B2BB-12BD2364DF68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109C-2552-4370-BBC1-2168FB44AB86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674640" y="5149800"/>
            <a:ext cx="3062304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680724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: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333333"/>
                </a:solidFill>
                <a:latin typeface="Arial"/>
              </a:rPr>
              <a:t>Ciências Sociais e Comunicação - Administração 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Freeform 27"/>
          <p:cNvSpPr/>
          <p:nvPr/>
        </p:nvSpPr>
        <p:spPr>
          <a:xfrm>
            <a:off x="6019920" y="2019240"/>
            <a:ext cx="230040" cy="130320"/>
          </a:xfrm>
          <a:custGeom>
            <a:avLst/>
            <a:gdLst/>
            <a:ahLst/>
            <a:rect l="l" t="t" r="r" b="b"/>
            <a:pathLst>
              <a:path w="522" h="314">
                <a:moveTo>
                  <a:pt x="0" y="314"/>
                </a:moveTo>
                <a:lnTo>
                  <a:pt x="184" y="314"/>
                </a:lnTo>
                <a:lnTo>
                  <a:pt x="206" y="313"/>
                </a:lnTo>
                <a:lnTo>
                  <a:pt x="226" y="311"/>
                </a:lnTo>
                <a:lnTo>
                  <a:pt x="246" y="307"/>
                </a:lnTo>
                <a:lnTo>
                  <a:pt x="265" y="301"/>
                </a:lnTo>
                <a:lnTo>
                  <a:pt x="285" y="295"/>
                </a:lnTo>
                <a:lnTo>
                  <a:pt x="303" y="286"/>
                </a:lnTo>
                <a:lnTo>
                  <a:pt x="321" y="277"/>
                </a:lnTo>
                <a:lnTo>
                  <a:pt x="337" y="267"/>
                </a:lnTo>
                <a:lnTo>
                  <a:pt x="353" y="255"/>
                </a:lnTo>
                <a:lnTo>
                  <a:pt x="369" y="243"/>
                </a:lnTo>
                <a:lnTo>
                  <a:pt x="383" y="230"/>
                </a:lnTo>
                <a:lnTo>
                  <a:pt x="396" y="216"/>
                </a:lnTo>
                <a:lnTo>
                  <a:pt x="410" y="201"/>
                </a:lnTo>
                <a:lnTo>
                  <a:pt x="421" y="186"/>
                </a:lnTo>
                <a:lnTo>
                  <a:pt x="431" y="170"/>
                </a:lnTo>
                <a:lnTo>
                  <a:pt x="441" y="153"/>
                </a:lnTo>
                <a:lnTo>
                  <a:pt x="522" y="0"/>
                </a:lnTo>
                <a:lnTo>
                  <a:pt x="158" y="0"/>
                </a:lnTo>
                <a:lnTo>
                  <a:pt x="0" y="3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617840" y="1368360"/>
            <a:ext cx="759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5:01Z</dcterms:modified>
  <cp:revision>186</cp:revision>
  <dc:subject/>
  <dc:title>Slide sem título</dc:title>
</cp:coreProperties>
</file>