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7FE-6336-4F2C-91DD-3551DBA1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6BB-8DAB-4AC8-8E15-8D87F7A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A5F-93EF-454B-BAE1-37094D40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08C-84D4-437A-8A06-AD3D0E2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9858-65FB-45B2-AE20-7053FC4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7AB-BA48-43C7-878F-5841FEA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E59-4EB6-4E4A-9FB6-E820421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57E4-1706-45AE-8443-09060BC1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BFB-71BF-43A0-AF60-9DC3A2C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7AAE-BA2C-4E5D-BB7C-46B831D3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8FA-27E2-4E0F-904E-5F3C598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F72-F9B6-420C-B892-7A7FE00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E3A0-0F77-43D5-809F-D76D8152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7638-EEA1-4C39-93DA-275B55E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4F71-A57C-4872-98FE-BA19D3D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E20-214C-47FE-8687-422CB5F6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8726-010B-40B8-A10F-00FAA066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9CB-BBD0-48A9-A02C-1B71DB6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28A-1ADA-4D89-A2F6-F887BA4D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080-B371-43DA-B40D-33D17CD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74A-1F29-4946-942F-F40EB30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5B7-EF83-4E00-958B-6BAFDD5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C22-63AF-44E3-80D3-4F7C5454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52B-807C-4147-87D7-C4F56B7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2D6-1E4B-46BE-8ACF-E47B4A1F6ED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1D9-6FFE-49FE-A7CB-4BAC777F6867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7Z</dcterms:modified>
  <cp:revision>181</cp:revision>
  <dc:subject/>
  <dc:title>Slide sem título</dc:title>
</cp:coreProperties>
</file>