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2D3-EC6C-4583-85B3-83F77127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DAB-B8C0-4C58-B68D-91FECF68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2A7-91B6-4891-99DF-C3D9CB75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52B-99EE-4613-9B58-4DE44BFB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E731-8CB1-40C9-A093-1D979CCB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AD50-F213-4ECB-8742-90CA796B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39BD-90CB-4FD9-8049-83E5AEFC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C117-4956-4FAB-8693-D24C2494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D70E-4F05-4AE2-AA8F-F7379B57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A4D4-2529-475B-A5FC-92DBFFFD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8FD0-9F6F-4F10-8D08-826F849C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FD1-AF72-404C-A442-48A7D6D8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9DF6-8DBF-4438-ADD4-32502204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309C-C473-4D9E-8B8B-9AC89632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7835-7767-4145-B85E-0E994B80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5BFD-4E96-499D-886B-21AC85C5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6D6F-4853-49EE-87EF-4FEFF491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EAB-7FEF-4406-8D09-A819A088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EE0-9D80-4FC3-BBAD-70B6FD9B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F54-A460-41A4-9395-F422565D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770-C8EA-42DF-891F-9E797A6B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3A8-CB37-474B-8540-5EBCA014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910-DF98-46AB-9093-5FFF7098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B6D-3C19-4CBB-B9B8-13547024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821D-DBBA-4371-97A2-111B8E3E600F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DBA6-7F72-4914-AA76-CCE772026EEF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917640" y="5073480"/>
            <a:ext cx="3062268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16000" y="742644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Humanas - Pedagogia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9290160" y="1606680"/>
            <a:ext cx="2275344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689120" y="1152360"/>
            <a:ext cx="76010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12Z</dcterms:modified>
  <cp:revision>185</cp:revision>
  <dc:subject/>
  <dc:title>Slide sem título</dc:title>
</cp:coreProperties>
</file>