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045-C262-451D-9E5D-8418747E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344-E978-4A27-BAF4-37C89FFA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C3A-2493-42D4-BB6F-A73A3914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D10-982B-44E3-B8D5-04976D79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3A2F-3453-430E-8774-B20F5867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F094-4808-4F15-B833-BBA279A7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CA2A-A72B-4B62-AA57-2EF1BAF0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7331-7E18-46B7-AFEA-B86222DD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E976-75DE-466E-B37A-BC1E7D31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7D67-BDDE-4E68-B9F1-043BB0D9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3295-CD81-43B9-A085-92F5E912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06B-1DD4-42EF-A219-0774A402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0BA5-7AA0-49D3-9724-DED24BBA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DBDA-4D7A-4BE0-ADEE-E38B3FD8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1C32-89D2-479F-8EBF-CFFFB064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CF4C-D09F-460B-AA82-FF94D91E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2E2C-23AA-4477-913F-073EA273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AB5-D7DC-468A-BD6C-82F35CD9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B62-CA59-41B4-805D-CA7F55C2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E81-8E35-42CC-8443-CC247F99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ADD-BE4D-4FE0-A52A-630C924E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762-5121-41DD-A740-9C1C19A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587-BE7C-4CB2-BBF7-4C2F0CA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233-4DE3-45F4-A0B2-72C0CE89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D1D6-7B55-4F6E-BF68-1D97C2F7F86D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D5FC-2DE9-4D4C-8B48-DB93C0E15C33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133640" y="4951440"/>
            <a:ext cx="3062268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16840"/>
            <a:ext cx="321865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Exatas e Tecnologia - Engenhar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55640" y="1081080"/>
            <a:ext cx="76010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02Z</dcterms:modified>
  <cp:revision>186</cp:revision>
  <dc:subject/>
  <dc:title>Slide sem título</dc:title>
</cp:coreProperties>
</file>