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9C6-BC51-49DE-AFE0-E687FC33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FE4-877C-471F-B291-47A0A5C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FFB-9B95-4DA2-AB7F-5BF7D2D6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BCB-419F-4ED4-AAB0-D55D6DBA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984-5225-4ED7-9303-1E31BFA9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1CD5-B19F-4604-9083-C493E82B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B676-661A-4F99-96E4-53E67F9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0FB-4C8F-44E8-AEBE-DE529A3B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2310-5421-496D-B431-A232931E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D2F8-7DA1-4E1E-BF6A-CEE92C2A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BA4E-5B49-4BAE-BD0D-E21CFA8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73C-1D9C-498C-B9AC-9371F737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9C20-7A6B-4868-A21A-BB65499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F3F1-61D3-4D89-BD6A-16206FF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4B9B-DCE7-4181-8544-B40AAC8F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DBCA-A0C1-44E4-89B5-FCFBE93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5005-9C4A-4BD5-A742-3F7E6370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A78-8D1D-40A9-8F5B-4613766F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309-E867-4FAF-9E8D-F4F5185B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2BE-8243-435E-B7AC-0E9E1B2C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511-E286-4C21-AAC0-212B627E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72A-3251-4732-95D0-BC37F2F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BBE-397E-4AB0-9CBC-C78EA05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A5C-13F9-4FEB-BCF6-4D7F31F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A888-5D46-41F7-B928-81CF6DB3A895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75BC-32C5-45B3-AB40-9ABC9ADFD73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72436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– Ciências Biológicas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8874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1:46Z</dcterms:modified>
  <cp:revision>190</cp:revision>
  <dc:subject/>
  <dc:title>Slide sem título</dc:title>
</cp:coreProperties>
</file>