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F3EA-E952-4150-82CE-FCAEDFBB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A018-AB74-40D8-AFC1-32401967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8EE5-53C4-4DA5-B53D-BAAB3051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8AE1-4CC6-4BE7-AE62-0A2436E3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528F-D385-401E-B860-724E742E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61A6-B5C3-4943-B553-0484D9D9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0F90-7FC9-4C71-86C9-4677E1B2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81BF-722D-4828-BF7F-705673AA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042E-C078-47F7-BCC3-1566BEA7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F400-562B-4B4E-9659-035CE9EB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35B8-770A-46FC-AC93-0F21B365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979C-BA00-41EA-A5C5-F644B997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5A8E-F63E-40A9-A55F-C2A4021A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E1FA-9FD1-40CF-A7B6-065A7A3B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21A4-E4EC-4671-8903-18408B05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E344-4916-4F41-9FB2-A17458A9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E5B4-7A95-431D-81C2-4D0C1A04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4E0F-611A-49DC-B960-54A7AF37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2EBB-603B-47FA-8981-7C85FC73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0DE6-1D84-41A2-9577-20486F51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74A1-CB02-4267-A706-6BF34CF0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5D21-9C00-4F8D-81A8-5C047184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75F4-5D1C-4370-A8C1-934D0704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BBEB-8CDF-41C7-B315-78E0B9C9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C632-88CD-4690-A109-36AF72F381C4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6357-C520-4002-BBE9-9F965969DD8A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846000" y="5073480"/>
            <a:ext cx="30621600" cy="110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3080" y="7364520"/>
            <a:ext cx="3218796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rientador ou Orientadora: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Ciências da Saúde - Biomedicina - Indianópolis (trata-se de um exemplo: cada aluno deve preencher com seus dados de curso e </a:t>
            </a:r>
            <a:r>
              <a:rPr b="0" i="1" lang="pt-BR" sz="51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7315200" y="1606680"/>
            <a:ext cx="25088760" cy="233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Apoio UNIP - Vice-Reitoria de Pós-Graduação e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Pesquis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: (até 03-três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165240" y="-174600"/>
            <a:ext cx="19545120" cy="19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8" name="Imagem 1" descr=""/>
          <p:cNvPicPr/>
          <p:nvPr/>
        </p:nvPicPr>
        <p:blipFill>
          <a:blip r:embed="rId1"/>
          <a:stretch/>
        </p:blipFill>
        <p:spPr>
          <a:xfrm>
            <a:off x="6769080" y="13849200"/>
            <a:ext cx="17559360" cy="18297720"/>
          </a:xfrm>
          <a:prstGeom prst="rect">
            <a:avLst/>
          </a:prstGeom>
          <a:ln w="0">
            <a:noFill/>
          </a:ln>
        </p:spPr>
      </p:pic>
      <p:pic>
        <p:nvPicPr>
          <p:cNvPr id="89" name="Imagem 8" descr=""/>
          <p:cNvPicPr/>
          <p:nvPr/>
        </p:nvPicPr>
        <p:blipFill>
          <a:blip r:embed="rId2"/>
          <a:stretch/>
        </p:blipFill>
        <p:spPr>
          <a:xfrm>
            <a:off x="2089080" y="1658880"/>
            <a:ext cx="68407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1-11-17T14:46:07Z</dcterms:modified>
  <cp:revision>188</cp:revision>
  <dc:subject/>
  <dc:title>Slide sem título</dc:title>
</cp:coreProperties>
</file>