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34290000" cy="45720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1A35-5023-4FA1-9DA2-C143B6875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2914632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71840" y="27536400"/>
            <a:ext cx="2914632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578F-1C59-44EE-8982-427B212E1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7184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750680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D194-A3D8-483E-A3E3-8AAEF828F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426480" y="1320804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280760" y="1320804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71840" y="2753640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426480" y="2753640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2280760" y="2753640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BCFB-F950-4960-9AB5-7166811C2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B096A-E8FF-4BD2-BEFD-F766B83C1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571840" y="13208040"/>
            <a:ext cx="29146320" cy="27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974"/>
              </a:spcBef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C3FD8-326D-4313-9BCE-BEF2EA48E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2914632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20346-026C-452E-A672-78BF53B18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CD4BE-0E70-492C-BB3D-A77DE7D0A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FF363-00D4-4112-989C-9DF180F76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571840" y="3048120"/>
            <a:ext cx="29146320" cy="3532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974"/>
              </a:spcBef>
              <a:tabLst>
                <a:tab algn="l" pos="0"/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B9995-1EB5-4F56-AFE1-EF73BD102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57184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B2351-64FC-4F33-B5B4-9ADB58334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71840" y="13208040"/>
            <a:ext cx="29146320" cy="27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974"/>
              </a:spcBef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73C4-A8C4-49D6-ACEC-3894E5860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750680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18489-FA22-427F-93AB-CE73912E8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571840" y="27536400"/>
            <a:ext cx="2914632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2FC7D-C607-4AAB-B9D3-9B8BFDA66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2914632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571840" y="27536400"/>
            <a:ext cx="2914632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CF6BF-6B9D-4C6E-874C-EBA3F1CEA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57184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750680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5FDB8-0DC2-405C-860E-9BEA80B02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2426480" y="1320804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2280760" y="1320804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571840" y="2753640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12426480" y="2753640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22280760" y="2753640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0955D-C2FE-4C4F-A666-90B39C4CB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2914632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4310-A4A7-4A19-BDFE-6D3558DE8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5B59-6467-490C-9F56-01BBF82CB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26C0-5601-4D60-8C34-11B6F3F66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71840" y="3048120"/>
            <a:ext cx="29146320" cy="3532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974"/>
              </a:spcBef>
              <a:tabLst>
                <a:tab algn="l" pos="0"/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A2F5-F238-4C2A-AB0B-11958CE13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7184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7B2A-31E6-4203-93AE-B29044B51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750680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778A-A56D-45EC-A2CE-43834BCB9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71840" y="27536400"/>
            <a:ext cx="2914632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1801-096F-49C2-B618-D30A01B5E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r>
              <a:rPr b="0" lang="en-US" sz="220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71840" y="13208040"/>
            <a:ext cx="2914632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marL="1712880" indent="-1712880">
              <a:spcBef>
                <a:spcPts val="3974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1" marL="3714840" indent="-1428840">
              <a:spcBef>
                <a:spcPts val="3974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2" marL="5715000" indent="-1146240">
              <a:spcBef>
                <a:spcPts val="3974"/>
              </a:spcBef>
              <a:buClr>
                <a:srgbClr val="333333"/>
              </a:buClr>
              <a:buFont typeface="Times New Roman"/>
              <a:buChar char="•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3" marL="8001000" indent="-1144440">
              <a:spcBef>
                <a:spcPts val="3974"/>
              </a:spcBef>
              <a:buClr>
                <a:srgbClr val="333333"/>
              </a:buClr>
              <a:buFont typeface="Times New Roman"/>
              <a:buChar char="–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4" marL="10283760" indent="-1141200">
              <a:spcBef>
                <a:spcPts val="3974"/>
              </a:spcBef>
              <a:buClr>
                <a:srgbClr val="333333"/>
              </a:buClr>
              <a:buFont typeface="Times New Roman"/>
              <a:buChar char="»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5" marL="10283760" indent="-1141200">
              <a:spcBef>
                <a:spcPts val="3974"/>
              </a:spcBef>
              <a:buClr>
                <a:srgbClr val="333333"/>
              </a:buClr>
              <a:buFont typeface="Times New Roman"/>
              <a:buChar char="»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6" marL="10283760" indent="-1141200">
              <a:spcBef>
                <a:spcPts val="3974"/>
              </a:spcBef>
              <a:buClr>
                <a:srgbClr val="333333"/>
              </a:buClr>
              <a:buFont typeface="Times New Roman"/>
              <a:buChar char="»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571840" y="41655600"/>
            <a:ext cx="7143840" cy="3048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715840" y="41655600"/>
            <a:ext cx="10858320" cy="3048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4574320" y="41655600"/>
            <a:ext cx="7143480" cy="3048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Autofit/>
          </a:bodyPr>
          <a:lstStyle>
            <a:lvl1pPr indent="0" algn="r">
              <a:spcBef>
                <a:spcPts val="4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4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A62BE-A3D6-45BF-9954-1F27CED09090}" type="slidenum">
              <a:rPr b="0" lang="en-US" sz="70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2590920" y="22269600"/>
            <a:ext cx="28698840" cy="3238200"/>
          </a:xfrm>
          <a:custGeom>
            <a:avLst/>
            <a:gdLst>
              <a:gd name="textAreaLeft" fmla="*/ 0 w 28698840"/>
              <a:gd name="textAreaRight" fmla="*/ 28699200 w 28698840"/>
              <a:gd name="textAreaTop" fmla="*/ 0 h 3238200"/>
              <a:gd name="textAreaBottom" fmla="*/ 3238560 h 3238200"/>
            </a:gdLst>
            <a:ahLst/>
            <a:rect l="textAreaLeft" t="textAreaTop" r="textAreaRight" b="textAreaBottom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r>
              <a:rPr b="0" lang="en-US" sz="220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2571840" y="13208040"/>
            <a:ext cx="2914632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marL="1712880" indent="-1712880">
              <a:spcBef>
                <a:spcPts val="3974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1" marL="3714840" indent="-1428840">
              <a:spcBef>
                <a:spcPts val="3974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2" marL="5715000" indent="-1146240">
              <a:spcBef>
                <a:spcPts val="3974"/>
              </a:spcBef>
              <a:buClr>
                <a:srgbClr val="333333"/>
              </a:buClr>
              <a:buFont typeface="Times New Roman"/>
              <a:buChar char="•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3" marL="8001000" indent="-1144440">
              <a:spcBef>
                <a:spcPts val="3974"/>
              </a:spcBef>
              <a:buClr>
                <a:srgbClr val="333333"/>
              </a:buClr>
              <a:buFont typeface="Times New Roman"/>
              <a:buChar char="–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4" marL="10283760" indent="-1141200">
              <a:spcBef>
                <a:spcPts val="3974"/>
              </a:spcBef>
              <a:buClr>
                <a:srgbClr val="333333"/>
              </a:buClr>
              <a:buFont typeface="Times New Roman"/>
              <a:buChar char="»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5" marL="10283760" indent="-1141200">
              <a:spcBef>
                <a:spcPts val="3974"/>
              </a:spcBef>
              <a:buClr>
                <a:srgbClr val="333333"/>
              </a:buClr>
              <a:buFont typeface="Times New Roman"/>
              <a:buChar char="»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6" marL="10283760" indent="-1141200">
              <a:spcBef>
                <a:spcPts val="3974"/>
              </a:spcBef>
              <a:buClr>
                <a:srgbClr val="333333"/>
              </a:buClr>
              <a:buFont typeface="Times New Roman"/>
              <a:buChar char="»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2571840" y="41655600"/>
            <a:ext cx="7143840" cy="3048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11715840" y="41655600"/>
            <a:ext cx="10858320" cy="3048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24574320" y="41655600"/>
            <a:ext cx="7143480" cy="3048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Autofit/>
          </a:bodyPr>
          <a:lstStyle>
            <a:lvl1pPr indent="0" algn="r">
              <a:spcBef>
                <a:spcPts val="4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4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61F7C-9CC8-4C2B-BAEB-A0F709FDA541}" type="slidenum">
              <a:rPr b="0" lang="en-US" sz="70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320"/>
          <p:cNvSpPr/>
          <p:nvPr/>
        </p:nvSpPr>
        <p:spPr>
          <a:xfrm>
            <a:off x="795240" y="6105600"/>
            <a:ext cx="32404320" cy="133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9840" rIns="159840" tIns="79920" bIns="79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pt-BR" sz="7700" spc="-1" strike="noStrike">
                <a:solidFill>
                  <a:srgbClr val="000066"/>
                </a:solidFill>
                <a:latin typeface="Arial"/>
              </a:rPr>
              <a:t>                 </a:t>
            </a:r>
            <a:r>
              <a:rPr b="1" lang="pt-BR" sz="7000" spc="-1" strike="noStrike">
                <a:solidFill>
                  <a:srgbClr val="000000"/>
                </a:solidFill>
                <a:latin typeface="Arial"/>
              </a:rPr>
              <a:t>Título da pesquisa  XXXXXXXXXXXXXXXXX</a:t>
            </a:r>
            <a:endParaRPr b="0" lang="en-US" sz="7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Text Box 322"/>
          <p:cNvSpPr/>
          <p:nvPr/>
        </p:nvSpPr>
        <p:spPr>
          <a:xfrm>
            <a:off x="254160" y="8313840"/>
            <a:ext cx="34061400" cy="36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9840" rIns="159840" tIns="79920" bIns="79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pt-BR" sz="4900" spc="-1" strike="noStrike">
                <a:solidFill>
                  <a:srgbClr val="333333"/>
                </a:solidFill>
                <a:latin typeface="Arial"/>
              </a:rPr>
              <a:t>                         </a:t>
            </a:r>
            <a:r>
              <a:rPr b="0" lang="pt-BR" sz="5700" spc="-1" strike="noStrike">
                <a:solidFill>
                  <a:srgbClr val="000000"/>
                </a:solidFill>
                <a:latin typeface="Arial"/>
              </a:rPr>
              <a:t>Autor: </a:t>
            </a:r>
            <a:r>
              <a:rPr b="1" lang="pt-BR" sz="5700" spc="-1" strike="noStrike">
                <a:solidFill>
                  <a:srgbClr val="000000"/>
                </a:solidFill>
                <a:latin typeface="Arial"/>
              </a:rPr>
              <a:t>XXXXXXXX</a:t>
            </a:r>
            <a:endParaRPr b="0" lang="en-US" sz="57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pt-BR" sz="57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pt-BR" sz="5700" spc="-1" strike="noStrike">
                <a:solidFill>
                  <a:srgbClr val="000000"/>
                </a:solidFill>
                <a:latin typeface="Arial"/>
              </a:rPr>
              <a:t>Orientador: Prof. ou Profa. XXXXX Se for Doutor, Prof. Dr. ou Profa. Dra.</a:t>
            </a:r>
            <a:endParaRPr b="0" lang="en-US" sz="57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pt-BR" sz="5700" spc="-1" strike="noStrike">
                <a:solidFill>
                  <a:srgbClr val="000000"/>
                </a:solidFill>
                <a:latin typeface="Arial"/>
              </a:rPr>
              <a:t>Ciências Sociais e Comunicação - Direito - Indianópolis (trata-se de um exemplo:cada aluno deve preencher com seus dados de curso e </a:t>
            </a:r>
            <a:r>
              <a:rPr b="0" i="1" lang="pt-BR" sz="5700" spc="-1" strike="noStrike">
                <a:solidFill>
                  <a:srgbClr val="000000"/>
                </a:solidFill>
                <a:latin typeface="Arial"/>
              </a:rPr>
              <a:t>campus</a:t>
            </a:r>
            <a:r>
              <a:rPr b="0" lang="pt-BR" sz="57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5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Text Box 361"/>
          <p:cNvSpPr/>
          <p:nvPr/>
        </p:nvSpPr>
        <p:spPr>
          <a:xfrm>
            <a:off x="8659800" y="1450800"/>
            <a:ext cx="24614280" cy="367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9840" rIns="159840" tIns="79920" bIns="7992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pt-BR" sz="7000" spc="-1" strike="noStrike">
                <a:solidFill>
                  <a:srgbClr val="333333"/>
                </a:solidFill>
                <a:latin typeface="Arial"/>
              </a:rPr>
              <a:t>Apoios: SANTANDER - Programa Santander </a:t>
            </a:r>
            <a:endParaRPr b="0" lang="en-US" sz="7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pt-BR" sz="7000" spc="-1" strike="noStrike">
                <a:solidFill>
                  <a:srgbClr val="333333"/>
                </a:solidFill>
                <a:latin typeface="Arial"/>
              </a:rPr>
              <a:t>Universidades de Bolsas Graduação e</a:t>
            </a:r>
            <a:endParaRPr b="0" lang="en-US" sz="7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pt-BR" sz="7000" spc="-1" strike="noStrike">
                <a:solidFill>
                  <a:srgbClr val="333333"/>
                </a:solidFill>
                <a:latin typeface="Arial"/>
              </a:rPr>
              <a:t>UNIP - Vice-Reitoria de Pós-Graduação e Pesquisa </a:t>
            </a:r>
            <a:endParaRPr b="0" lang="en-US" sz="7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1295280" y="41849640"/>
            <a:ext cx="11847600" cy="16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pt-BR" sz="57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57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pt-BR" sz="4700" spc="-1" strike="noStrike">
                <a:solidFill>
                  <a:srgbClr val="000000"/>
                </a:solidFill>
                <a:latin typeface="Arial"/>
              </a:rPr>
              <a:t>Palavras-chave</a:t>
            </a:r>
            <a:r>
              <a:rPr b="0" lang="pt-BR" sz="4700" spc="-1" strike="noStrike">
                <a:solidFill>
                  <a:srgbClr val="000000"/>
                </a:solidFill>
                <a:latin typeface="Arial"/>
              </a:rPr>
              <a:t>: (de 3 a 5)</a:t>
            </a:r>
            <a:endParaRPr b="0" lang="en-US" sz="47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7" name="Picture 9" descr="C:\Users\POS\Pictures\Logos\LogoTarja_ViceReitoria.png"/>
          <p:cNvPicPr/>
          <p:nvPr/>
        </p:nvPicPr>
        <p:blipFill>
          <a:blip r:embed="rId1"/>
          <a:stretch/>
        </p:blipFill>
        <p:spPr>
          <a:xfrm>
            <a:off x="1459080" y="1762200"/>
            <a:ext cx="75992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2T15:26:35Z</dcterms:created>
  <dc:creator>UNIP</dc:creator>
  <dc:description/>
  <dc:language>en-US</dc:language>
  <cp:lastModifiedBy>POS</cp:lastModifiedBy>
  <dcterms:modified xsi:type="dcterms:W3CDTF">2023-03-16T18:28:02Z</dcterms:modified>
  <cp:revision>181</cp:revision>
  <dc:subject/>
  <dc:title>Slide sem título </dc:title>
</cp:coreProperties>
</file>