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6E4-ACDF-4FE1-B218-E187EE82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530-01C3-4921-A07E-0668E129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FCC-92CA-42E4-B6C5-0B9CAA61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39E-7CBB-4E65-B9F7-FC6F1779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9AF2-848B-414E-839A-B16BE5B1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9321-F718-4E4C-8AFA-B626BFF5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E69D-AA95-45B0-A120-208F3603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BE92-8083-4A84-878B-8065C412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4DAE-60C9-4EFE-BCD6-A444715A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7DA4-7CF4-4F0B-BB7A-CFBF9710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E354-BE23-41B6-A63E-271E5E7B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DEC-B523-49E2-98D8-28B5575F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29C0-3E53-46EF-9C83-6D894E54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4F20-B532-4E31-9A59-74957F61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666E-3368-4B67-8964-807E5389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9C7A-FDE4-4AF9-8DE6-2D60BE75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F6DA-29F7-4485-9E9E-8E067CA6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9BB-22EF-44AC-93AA-B968BEA4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575-F3D3-49CA-AB7D-999DE7DA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373-B829-4AB8-83CD-84791FC0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B31-A30B-43B5-9BCE-5EFE4780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753-EEBC-4FF9-A7E5-45AECB99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085-E5EC-4323-A793-8F6275FD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48A-9E20-4941-96CD-A9CD170C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8501-55B4-40D1-8DA2-BEC8EA62E07C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B973-4ACD-4FEA-9325-51AA46392D19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531720" y="627228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162000" y="845820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Ciências Sociais e Comunicação - Administração - Indianópolis (trata-se de um exemplo: cada aluno deve preencher com seus dados de curso e </a:t>
            </a:r>
            <a:r>
              <a:rPr b="0" i="1" lang="pt-BR" sz="57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913960" y="1257480"/>
            <a:ext cx="2414412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2a2a2a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2a2a2a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2a2a2a"/>
                </a:solidFill>
                <a:latin typeface="Arial"/>
              </a:rPr>
              <a:t>UNIP - Vice-Reitoria de Pós-Graduação e Pesquisa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7:37Z</dcterms:modified>
  <cp:revision>182</cp:revision>
  <dc:subject/>
  <dc:title>Slide sem título </dc:title>
</cp:coreProperties>
</file>