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56B-0E6B-4F6A-AD44-0D8279A3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C26-F8DD-4BFF-B7BB-1E7F6012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4F5-6A25-440D-8D59-58C9559F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F81-10C3-4306-A514-FF8E0AB8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330B-62B8-4DD2-A508-C8ACF98F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41D9-F080-41E6-90A3-1D7A8AB4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D3B8-DA7C-45EF-9D4F-E16330B9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5961-B7D6-45AE-8B8D-93785EE7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AE4A-DCCA-452F-AB9B-6392174F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9242-FDC7-4444-826E-B18BC4D5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855D-76FA-44F2-8324-9A0A992A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34D-54E2-4B33-A338-8126ABD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7EF3-5152-422E-90B1-533DB8B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B678-26C7-4D21-B320-5C2816D7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95C4-8DBA-4243-80B7-CB3AB3F2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6803-2FE5-4DDF-9CCB-0D568873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947A-09AC-4F61-BF42-BB23B180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628-AFF9-48B8-B797-85C7D1A3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7A9-2298-4DAB-92E6-CE614E6B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596-83E0-4A35-ADCE-3F91A1F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31E-66CB-45D5-A3F9-639982BD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477-72E5-41E3-B39A-0F0809A9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5CA-59AB-4B59-9367-CB56C20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0FA-F486-4662-AE7B-B0ADE7DD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2BE5-01AA-48A6-96C8-6A8DD8155A52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724F-C592-4BF9-8C15-EF998A4344A2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28344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28600" y="845820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Ciências da Saúde - Odontologia - Indianópolis (trata-se de um exemplo: cada aluno deve preencher com seus dados de curso e </a:t>
            </a:r>
            <a:r>
              <a:rPr b="0" i="1" lang="pt-BR" sz="57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9020160" y="1257480"/>
            <a:ext cx="2403792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66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76220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7:07Z</dcterms:modified>
  <cp:revision>179</cp:revision>
  <dc:subject/>
  <dc:title>Slide sem título </dc:title>
</cp:coreProperties>
</file>