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4290000" cy="45720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CB3E-C76D-4E3B-A7B4-61325BF9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18E3-72FF-4755-8A33-87B3AB5A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8B3B-5C98-4918-AD7F-F635FE4C2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42648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28076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184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42648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228076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413D-F099-43B9-AF40-C9632B648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D71D-A6A1-472A-AF52-32E4D2BB2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974"/>
              </a:spcBef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CE80-FFBD-4FA4-99E7-FF69AC28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64B0-B9D0-4D44-864E-0E5C0017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6D00-6CF3-4611-A4DE-D66E0275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69AE-EE8E-4C2F-98C7-F1C50593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571840" y="3048120"/>
            <a:ext cx="29146320" cy="353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974"/>
              </a:spcBef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2853-211D-4555-8551-52D99B77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64ED-090E-4E6F-B6B0-D7BAC7BD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974"/>
              </a:spcBef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9D73-FE79-4CA0-A5B1-3621F5B4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E669-056D-478B-9D7B-6EB7F962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8720-3BDD-40DB-ADE0-7D22978C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4DAC-6883-4E14-AEBA-181E507E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883A-AC8B-49FA-8E57-14909617B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42648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28076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57184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242648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228076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1358-D145-452D-AF4A-DDC895075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ADA7-AC57-4E36-A3A0-726E6F58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DC81-A466-42D9-B76D-DBEBE66D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57A1-EA2C-461D-92CC-F477A125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71840" y="3048120"/>
            <a:ext cx="29146320" cy="353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974"/>
              </a:spcBef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39F1-B84F-4515-BBAF-0AD8A20D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C2CE-9122-4332-9D76-B62B5445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24B2-066E-4ADE-92B0-6E386D7C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646F-C3C1-4802-9F74-D2D35581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r>
              <a:rPr b="0" lang="en-US" sz="220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marL="1712880" indent="-1712880">
              <a:spcBef>
                <a:spcPts val="39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1" marL="3714840" indent="-1428840">
              <a:spcBef>
                <a:spcPts val="39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2" marL="5715000" indent="-1146240">
              <a:spcBef>
                <a:spcPts val="3974"/>
              </a:spcBef>
              <a:buClr>
                <a:srgbClr val="333333"/>
              </a:buClr>
              <a:buFont typeface="Times New Roman"/>
              <a:buChar char="•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3" marL="8001000" indent="-1144440">
              <a:spcBef>
                <a:spcPts val="3974"/>
              </a:spcBef>
              <a:buClr>
                <a:srgbClr val="333333"/>
              </a:buClr>
              <a:buFont typeface="Times New Roman"/>
              <a:buChar char="–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4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5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6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71840" y="41655600"/>
            <a:ext cx="714384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715840" y="41655600"/>
            <a:ext cx="1085832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4574320" y="41655600"/>
            <a:ext cx="714348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C0AA-DB3E-43CA-871E-62910BEFBEBE}" type="slidenum">
              <a:rPr b="0" lang="en-US" sz="70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590920" y="22269600"/>
            <a:ext cx="28698840" cy="3238200"/>
          </a:xfrm>
          <a:custGeom>
            <a:avLst/>
            <a:gdLst>
              <a:gd name="textAreaLeft" fmla="*/ 0 w 28698840"/>
              <a:gd name="textAreaRight" fmla="*/ 28699200 w 28698840"/>
              <a:gd name="textAreaTop" fmla="*/ 0 h 3238200"/>
              <a:gd name="textAreaBottom" fmla="*/ 3238560 h 323820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r>
              <a:rPr b="0" lang="en-US" sz="220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marL="1712880" indent="-1712880">
              <a:spcBef>
                <a:spcPts val="39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1" marL="3714840" indent="-1428840">
              <a:spcBef>
                <a:spcPts val="39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2" marL="5715000" indent="-1146240">
              <a:spcBef>
                <a:spcPts val="3974"/>
              </a:spcBef>
              <a:buClr>
                <a:srgbClr val="333333"/>
              </a:buClr>
              <a:buFont typeface="Times New Roman"/>
              <a:buChar char="•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3" marL="8001000" indent="-1144440">
              <a:spcBef>
                <a:spcPts val="3974"/>
              </a:spcBef>
              <a:buClr>
                <a:srgbClr val="333333"/>
              </a:buClr>
              <a:buFont typeface="Times New Roman"/>
              <a:buChar char="–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4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5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6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571840" y="41655600"/>
            <a:ext cx="714384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715840" y="41655600"/>
            <a:ext cx="1085832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4574320" y="41655600"/>
            <a:ext cx="714348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BD19-F640-4674-AED0-C7952A1E97DB}" type="slidenum">
              <a:rPr b="0" lang="en-US" sz="70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795240" y="6369120"/>
            <a:ext cx="32404320" cy="133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700" spc="-1" strike="noStrike">
                <a:solidFill>
                  <a:srgbClr val="000066"/>
                </a:solidFill>
                <a:latin typeface="Arial"/>
              </a:rPr>
              <a:t>                   </a:t>
            </a: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Título da pesquisa  XXXXXXXXXXXXXXXXX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282600" y="8097840"/>
            <a:ext cx="34061400" cy="36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4900" spc="-1" strike="noStrike">
                <a:solidFill>
                  <a:srgbClr val="333333"/>
                </a:solidFill>
                <a:latin typeface="Arial"/>
              </a:rPr>
              <a:t>                         </a:t>
            </a:r>
            <a:r>
              <a:rPr b="0" lang="pt-BR" sz="5700" spc="-1" strike="noStrike">
                <a:solidFill>
                  <a:srgbClr val="333333"/>
                </a:solidFill>
                <a:latin typeface="Arial"/>
              </a:rPr>
              <a:t>Autor: </a:t>
            </a:r>
            <a:r>
              <a:rPr b="1" lang="pt-BR" sz="5700" spc="-1" strike="noStrike">
                <a:solidFill>
                  <a:srgbClr val="333333"/>
                </a:solidFill>
                <a:latin typeface="Arial"/>
              </a:rPr>
              <a:t>XXXXXXXX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5700" spc="-1" strike="noStrike">
                <a:solidFill>
                  <a:srgbClr val="333333"/>
                </a:solidFill>
                <a:latin typeface="Arial"/>
              </a:rPr>
              <a:t>                               </a:t>
            </a:r>
            <a:r>
              <a:rPr b="0" lang="pt-BR" sz="5700" spc="-1" strike="noStrike">
                <a:solidFill>
                  <a:srgbClr val="333333"/>
                </a:solidFill>
                <a:latin typeface="Arial"/>
              </a:rPr>
              <a:t>Orientador: Prof. ou Profa. XXXXX Se for Doutor, Prof. Dr. ou Profa. Dra.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5700" spc="-1" strike="noStrike">
                <a:solidFill>
                  <a:srgbClr val="333333"/>
                </a:solidFill>
                <a:latin typeface="Arial"/>
              </a:rPr>
              <a:t>Ciências Humanas - Pedagogia - Indianópolis (trata-se de um exemplo:cada aluno deve preencher com seus dados de curso e </a:t>
            </a:r>
            <a:r>
              <a:rPr b="0" i="1" lang="pt-BR" sz="5700" spc="-1" strike="noStrike">
                <a:solidFill>
                  <a:srgbClr val="333333"/>
                </a:solidFill>
                <a:latin typeface="Arial"/>
              </a:rPr>
              <a:t>campus</a:t>
            </a:r>
            <a:r>
              <a:rPr b="0" lang="pt-BR" sz="57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8012160" y="1112760"/>
            <a:ext cx="24974640" cy="371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Apoios: SANTANDER - Programa Santander 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Universidades de Bolsas Graduação e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UNIP - Vice-Reitoria de Pós-Graduação e Pesquisa</a:t>
            </a:r>
            <a:r>
              <a:rPr b="1" lang="pt-BR" sz="7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95280" y="41849640"/>
            <a:ext cx="1184760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57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4700" spc="-1" strike="noStrike">
                <a:solidFill>
                  <a:srgbClr val="333333"/>
                </a:solidFill>
                <a:latin typeface="Arial"/>
              </a:rPr>
              <a:t>Palavras-chave</a:t>
            </a:r>
            <a:r>
              <a:rPr b="0" lang="pt-BR" sz="4700" spc="-1" strike="noStrike">
                <a:solidFill>
                  <a:srgbClr val="333333"/>
                </a:solidFill>
                <a:latin typeface="Arial"/>
              </a:rPr>
              <a:t>: (de 3 a 5)</a:t>
            </a:r>
            <a:endParaRPr b="0" lang="en-US" sz="47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Picture 9" descr="C:\Users\POS\Pictures\Logos\LogoTarja_ViceReitoria.png"/>
          <p:cNvPicPr/>
          <p:nvPr/>
        </p:nvPicPr>
        <p:blipFill>
          <a:blip r:embed="rId1"/>
          <a:stretch/>
        </p:blipFill>
        <p:spPr>
          <a:xfrm>
            <a:off x="1459080" y="1450800"/>
            <a:ext cx="75992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26:10Z</dcterms:modified>
  <cp:revision>183</cp:revision>
  <dc:subject/>
  <dc:title>Slide sem título </dc:title>
</cp:coreProperties>
</file>