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C9C-C4B5-4E87-9E5B-F4151949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A27-ED55-411A-ABAA-D7B5086F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509-BECF-4606-B854-47E5CA3A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5E2-C617-4FC6-A438-129ED390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4D74-C93A-42EA-9136-F2048876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8B6F-DAFB-4BD0-BAA5-AB5FB529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0A2-0713-4562-A300-4DD19BBF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D4B6-D974-4A0C-93B2-F98F647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635B-5414-4168-9FFD-9CB0E8D3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84A1-D244-4BF6-9C64-3A4E46C0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453C-0392-4A4B-A00D-E522D17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089-7CDB-4239-8958-B985216D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185B-DD01-42A6-876B-07ECE1E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F23C-8A5E-4D70-AE73-942F353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AA1C-DBE7-43B1-9F86-F387666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DB80-3725-437B-B71A-58EAC05C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7CAF-4305-4C5D-A33E-E4C0D755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436-1C4F-4EEE-B323-6E7B8F3E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423-22F4-4A82-A766-12154E25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F75-22FD-48C5-84C1-C9E2CC16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2D7-2A56-44AE-BF29-C23B5807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86D-E495-4C0D-A9E0-7F27CEC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C2D-66CF-4F1E-9349-B04E54C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DCB-1A78-48E7-A083-211051F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1F61-467C-48E5-BE09-3601303679D4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EE4-54C9-43D8-BCAC-33A3686AEAAD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4560" y="6369120"/>
            <a:ext cx="3240396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27200" y="8097840"/>
            <a:ext cx="33715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191919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                              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Orientador: Prof. ou Profa. XXXXX Se for Doutor, Prof. Dr. ou Profa. Dra.</a:t>
            </a:r>
            <a:endParaRPr b="0" lang="en-US" sz="5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500" spc="-1" strike="noStrike">
                <a:solidFill>
                  <a:srgbClr val="191919"/>
                </a:solidFill>
                <a:latin typeface="Arial"/>
                <a:ea typeface="Arial"/>
              </a:rPr>
              <a:t>Superior Tecnológico - Informação e Comunicação  - Gestão da Tecnologia da Informação</a:t>
            </a:r>
            <a:r>
              <a:rPr b="0" lang="pt-BR" sz="5500" spc="-1" strike="noStrike">
                <a:solidFill>
                  <a:srgbClr val="191919"/>
                </a:solidFill>
                <a:latin typeface="Times New Roman"/>
              </a:rPr>
              <a:t>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 - Indianópolis (trata-se de um exemplo: cada aluno deve preencher com seus dados de curso e </a:t>
            </a:r>
            <a:r>
              <a:rPr b="0" i="1" lang="pt-BR" sz="5500" spc="-1" strike="noStrike">
                <a:solidFill>
                  <a:srgbClr val="191919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288280" y="1427040"/>
            <a:ext cx="2468556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5:45Z</dcterms:modified>
  <cp:revision>187</cp:revision>
  <dc:subject/>
  <dc:title>Slide sem título </dc:title>
</cp:coreProperties>
</file>