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564-857D-4119-AAD7-9645497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EA2-4FC8-491D-9633-F1D1138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CC4-AA62-4688-94DC-FE02A32F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EED-71AA-41A6-9422-6E3989E5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8ACC-8890-4113-823C-F1E02571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4FA-ACF2-4DBF-B338-0C77DBE6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6C8-6034-414C-82F4-6E692D7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4C53-5AEE-4917-A6FD-789F121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F13-3259-44E3-BEAE-EF57390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F41-62E4-4F8F-8173-AD7243B6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C980-6014-4F4F-9F16-2298768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23A-B33C-4063-AB9F-1890E9E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910E-9377-4BD5-9997-DA40697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30BA-5FE5-4427-93D0-6FC8C41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8AAB-5123-45FF-A81D-E9393CB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4EBD-50B5-4195-B176-F05905C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33B0-5791-4E93-9625-E73A7BA1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955-1C76-4DA0-BFBF-19A40BA5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BA1-6669-4F72-B0F2-CBEC322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0B9-7FDB-4B32-863F-9F8D8101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0CB-DF50-4205-B296-F78C77B7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B1C-940C-4975-B619-10821AB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C7E-C215-4196-9369-3363F68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9E4-881A-480F-B9EB-C84823F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5BE9-C0AF-4ECA-A575-A74D46FBFDF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9F4-93FB-4860-BD31-1523AF9256E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30360" y="6103800"/>
            <a:ext cx="3061944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6560" y="7848720"/>
            <a:ext cx="3199464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738920" y="1152360"/>
            <a:ext cx="23512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31Z</dcterms:modified>
  <cp:revision>190</cp:revision>
  <dc:subject/>
  <dc:title>Slide sem título</dc:title>
</cp:coreProperties>
</file>