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CE4-A82C-4F94-87EB-29BB0047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65A-3399-4520-B409-496EBA7C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F86-61FF-4AF5-A59E-E44A5376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AA3-66CA-4713-A994-967B42B1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9E6-83A9-4513-A549-41E092F1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92DB-15D0-491E-9FC8-BBAA7DF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913-1A11-4574-9579-AB4E2A53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2B5-659F-4475-8253-DEAAF46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64AC-0FD6-46FC-8806-6B28E4D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380A-65EF-4D21-97A3-AAC3D88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C858-A4AF-4D38-B7EC-B4EEBFC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F15-6BFC-4A8D-B66E-97EC9C0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CD93-2FD5-4BF7-B329-EC464CE7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F37A-1E9F-43AE-A31D-9B35DE6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18EC-19D2-4409-B383-90289FB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53CC-AB20-4698-8E66-8059A879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6F47-CDE8-494B-A4D8-E58A9015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02E-F29B-4C8E-85B4-DA60EBB1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0EC-C029-4589-B3D5-A74A03B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241-69CA-4B2A-B46C-E90541C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BEF-59F8-4F88-8965-5A58A7C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E76-A780-4E21-B312-D006504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E2B-D0CB-46D7-A683-84B97F8B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663-0B06-468E-93B0-FFE9734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F52B-B4E8-45A2-B41F-9D4321A3E579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0EE2-E6E5-4E76-821F-ED5F8DAF437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19000" y="5838840"/>
            <a:ext cx="3062160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33200" y="7561440"/>
            <a:ext cx="321883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531280" y="1257480"/>
            <a:ext cx="22864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655640" y="1487520"/>
            <a:ext cx="7601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30:16Z</dcterms:modified>
  <cp:revision>188</cp:revision>
  <dc:subject/>
  <dc:title>Slide sem título</dc:title>
</cp:coreProperties>
</file>